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C9AD-B711-4678-8B17-3A020D4FC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9A0-2034-47B8-AB2F-994E2A0D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1B24-A17D-4623-B0E4-E361C0157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CEB9-C51B-439C-BC22-FDB861983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A93D-464F-4F03-9DA7-18419671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52D-D313-428C-A4B4-38DE10E9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CBB3-83DB-4C43-BD6F-B989A3A1E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78A9-1DDA-4C73-90DE-9BEB3EA7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C233-30E7-4E5A-8FE5-3123DE2AC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9472-A6DF-440D-8BEE-E14086E0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539C-85A1-4F0B-AA4A-0C7AB2301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C0C-BBA2-42D7-A500-66F30ED5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06F38-84E0-4720-8824-090970B27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ohnkyrk.com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DNA Re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pying DNA when you need to make new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do you make a new set of chromosom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en the cell is divi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process we are interested in is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ell Division which makes two cells with an exact copy of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t’s a simple proc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DNA unzips, new nucleotides match up with the old bas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DNA zips up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ohnkyrk.com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e have to add in some control proc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zymes that untwist the DNA and relieve the strain – helicase and gyr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nzyme that unzips – DNA Polymerase – causes the hydrogen bonds between the bases to break open so new bases can jo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3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ydrogen bonds hold the two strands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74960" y="981000"/>
            <a:ext cx="5395680" cy="5702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9280" y="1916280"/>
            <a:ext cx="1800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 hydrogen bonds between G and 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ly 2 between A and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16280"/>
            <a:ext cx="1800360" cy="1873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4653000"/>
            <a:ext cx="1728720" cy="129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NA copies are made so that cells can divide.  Many protein enzymes ar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51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two strands build up in different w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leading strand builds up in order, in the 5- 3 dir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(5 to 3 is a good time of the d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lagging strand build up in chunks, with the gaps filled in later. The chunks are called Okazaki fra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nother enzyme called DNA Ligase joins the fragments toge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82, 8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ce the DNA has made two lots of chromosome material, the whole cell goes through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81 Mitosis and the cell cy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17:15Z</dcterms:created>
  <dc:creator>Ministry of Education</dc:creator>
  <dc:description/>
  <dc:language>en-US</dc:language>
  <cp:lastModifiedBy>Ministry of Education</cp:lastModifiedBy>
  <dcterms:modified xsi:type="dcterms:W3CDTF">2009-07-09T09:08:08Z</dcterms:modified>
  <cp:revision>6</cp:revision>
  <dc:subject/>
  <dc:title>DNA Replication</dc:title>
</cp:coreProperties>
</file>